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84BB-F973-4029-8CAF-927D43D6E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174-A600-4B7D-9880-AB6B4EA8CB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320-2D0E-46E8-99BC-4B43BC925D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79B-C9AD-40EE-9EDF-2BC89A193A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99D3-C7F8-4495-AC4A-324CD6BC2C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A0E-C1A9-4C09-BD21-D95D39DCC2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2FF-515E-4BF7-9E53-715538A148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E9D-A3B0-4AE3-81E2-FDEDA5BCCF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3D97-8920-4A0F-9949-EB31F7E3E6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CDF-8963-4AC6-8AE0-56BA2579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518-02D3-4140-A5B3-A9F77972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FBD-9504-459F-9FA8-D00B0E44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851-3475-4C98-ADF6-D7957BCC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A748-9663-4B2D-AE74-3FBACCCB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7363-10E9-4F8F-9DAE-5BA37324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7256-F967-4128-9BD0-30E73934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100-8E3F-4E42-8608-765A0DD3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09B8-242C-446E-B720-B17EAE84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39F1-051E-4C6C-9A14-D8090060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7F6A-48BE-4ECF-AAD9-EE80E2C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D38-8D61-4CCE-BCEB-BA975C85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5057-2785-4227-A6BF-4A92F544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3AD6-CBB4-4392-938D-D1CAB9D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827A-5F36-4A3C-9DA9-51FDA13D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4AF6-9812-466D-935B-0506B943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C9FC-8710-4EBA-9B63-8E5FDF16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0EBD-71F6-45A3-B0EC-0B49393C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C02C-1899-4938-BE4F-F4F8CA3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4D31-B17F-431D-8302-5C650A76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DA3E-4506-44A3-A998-39BE55DD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CB15-7C95-4AE4-B917-A3BD027B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3E1-1D0E-44AC-AC0B-EAC76C5F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E3EB-820B-4402-B15C-F05888E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587E-6F82-4E42-B63E-DA45890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7EA2-F7B9-414F-BDD7-D3DE019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59B5-0827-4C80-8BB4-B8B8656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DB3F-EEE4-4BA1-821D-5E35BFD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A965-1C2B-4E73-B5E4-D3101C7F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1B44-C251-44AF-BCE7-C53D7468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90D0-0D43-42EC-ABC6-B9F33681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DD73-EC2B-488B-ADD4-FFF6D1C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16F43-F7E1-4CF1-9843-F4ADDA8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BC4-19C9-48F7-9502-0DA2D60C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80D0-E6AD-4543-BB8E-035F36B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C99A-AE01-4E8E-9DFE-4FEE4EBA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6DD3-A15D-4144-9C8C-97D3E33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B910-FBC2-4E6D-85DA-D5DFAEB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22E9-538C-4243-B3BC-2381087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EE1A-4441-42F8-A8D5-13201B2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D4FBA-C517-4A3C-B018-92223E6B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52E4-C186-40CE-9041-8AD1C893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1900-8686-4576-9C4F-E120CEE0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C24D-BB76-44C1-B46C-20BB541A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F73-B66C-4325-BA24-5223EEAC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B7E8-C165-4FFA-9944-A98401A4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188E4-4241-4021-B0D1-13E01C5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EAED-EA55-4BD3-B56A-2BD4A36B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BD41-E798-4CAC-B7C5-41800ABA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944A-8C46-4A0F-B118-01005917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D4F4-2329-46A2-9371-852ECAB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987F-649B-4DE6-B1AA-60E49D4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74F8A-67DD-49ED-B218-6602E33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3A20-61DB-4B2B-BABE-1552E4AE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FB8B2-93F1-4808-9EEE-0D54C351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77F-2CBB-4588-A09A-0B53ADD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8CCFD-6539-46A2-9F1D-231A54F0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0316-A186-4C77-A6A9-73AD9863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D3115-B964-42B4-9931-33D821F5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F581-B9C7-4CF5-A73D-C674464A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76F5-73BE-4FE9-B0DE-E232D354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3B038-9060-4D2E-A5BF-8A33CE1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1787-0613-44B1-91B1-6A035DD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1CC7-A6AB-4333-887B-6C47361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7370-001F-4313-98B1-B53E026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0CEC-CFC8-46BC-8E5C-F4BE503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21B-D9F8-4B31-9BC7-2C6A3018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B4797-C46A-4DB6-BDAA-A7576F9A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9358-FE39-426E-8A8C-5927EFEC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1701-FEE2-48CA-B2C7-07AFD50A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FEA1-3604-42A5-AACC-883E247C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A79B-4585-4DDD-BBB1-8FF45993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5822-690B-42C1-B003-4C058C5C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B944-761C-4D10-B8A4-2BB58D9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561E-E9C7-4459-B363-AF82A408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0CB0C-ECF0-46D8-B1E3-07BD491E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7F999-A943-4BE9-9768-AE7BE2EC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983-7DB1-4911-B7E9-BF671F8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3533-0457-4510-A647-35C050CC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2FDB5-4C8F-41A4-9502-8C9C3599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08FE7-1F80-4457-87CA-72EE57E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259F3-0E43-417D-9842-B0C249B1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D5596-9BBD-456B-A467-23E8C592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797BC-B80D-4173-B922-AD20BB06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A35F3-C1CD-4EAB-8476-809FE66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C51F3-C5B7-4079-AA62-F401B72B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18DC4-004F-42E4-86A9-4B0B3FF2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E64A9-A6F7-4758-BDE8-090332BE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AF0-CD4C-42E2-8F7B-5A282FE6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D879-BD0A-4C85-A15C-7643F1B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15AEF-782E-4107-ACD5-0BAE41D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F75B-5B28-49C4-920E-33428B1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88B26-C857-487C-93BF-9D7295B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A951-DDB3-4063-8D80-86AB5C18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BAAAA-6F98-4A0E-A124-383D59E0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B9FF6-E14E-4439-AB71-91E24FC4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EA63-F6C2-406F-961F-7208CA47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CD2-D228-4581-9460-C3597947E7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B42B-73EA-4539-818F-E22191C6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6640-8928-474A-9EC7-8AC58E1266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51E7-F1E2-42E8-ACEF-B553DD8F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EEE-5054-43E3-B652-EE5F6DE4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60FC-9A8A-4B8B-9B28-73BFEFF34BE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735D-329E-4637-BE80-514CFBED8DA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4"/>
          <p:cNvSpPr/>
          <p:nvPr/>
        </p:nvSpPr>
        <p:spPr>
          <a:xfrm>
            <a:off x="3048120" y="51703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icole Cai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ctober 5, 20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5" descr="http://imageserver.ebscohost.com/img/imageqv/actual/ret/20100301/10001109.jpg?ephost1=dGJyMMTo50Sepq84zdnyOLCmr0iepq5Srqa4SK6WxWXS"/>
          <p:cNvPicPr/>
          <p:nvPr/>
        </p:nvPicPr>
        <p:blipFill>
          <a:blip r:embed="rId1"/>
          <a:stretch/>
        </p:blipFill>
        <p:spPr>
          <a:xfrm>
            <a:off x="2590920" y="1981080"/>
            <a:ext cx="4190760" cy="3151440"/>
          </a:xfrm>
          <a:prstGeom prst="rect">
            <a:avLst/>
          </a:prstGeom>
          <a:ln w="0">
            <a:noFill/>
          </a:ln>
        </p:spPr>
      </p:pic>
      <p:pic>
        <p:nvPicPr>
          <p:cNvPr id="354" name="Title 7" descr=""/>
          <p:cNvPicPr/>
          <p:nvPr/>
        </p:nvPicPr>
        <p:blipFill>
          <a:blip r:embed="rId2"/>
          <a:stretch/>
        </p:blipFill>
        <p:spPr>
          <a:xfrm>
            <a:off x="378000" y="262080"/>
            <a:ext cx="84549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7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4134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83844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Questioning may be thought of as something simple, but there is so much more than what we think about on the surface. Answering questions, essentially is all about making connection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7" descr="http://imageserver.ebscohost.com/img/imageqv/actual/ret/20100301/10001111.jpg?ephost1=dGJyMMTo50Sepq84zdnyOLCmr0iepq5Srqa4SK6WxWXS"/>
          <p:cNvPicPr/>
          <p:nvPr/>
        </p:nvPicPr>
        <p:blipFill>
          <a:blip r:embed="rId2"/>
          <a:stretch/>
        </p:blipFill>
        <p:spPr>
          <a:xfrm>
            <a:off x="1292400" y="304920"/>
            <a:ext cx="70894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4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algn="ctr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hema- What is schema and how does it affect students and their question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elcro Theory”- Making connections and sticking it to what you kno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fore, During and After anchor char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2" descr="http://images.amazon.com/images/P/0064441865.01._SCLZZZZZZZ_.jpg"/>
          <p:cNvPicPr/>
          <p:nvPr/>
        </p:nvPicPr>
        <p:blipFill>
          <a:blip r:embed="rId2"/>
          <a:stretch/>
        </p:blipFill>
        <p:spPr>
          <a:xfrm>
            <a:off x="5954760" y="2133720"/>
            <a:ext cx="2689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algn="ctr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ook Talks– Designed to catch the readers attention and draw in focu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more they assessed their own questions, the more and more in depth their questions beca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ctr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king personal connections with the character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685800" y="4114800"/>
            <a:ext cx="7924680" cy="22842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FIGURE 1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Questions for book talk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1. What type of personal connections did you mal&lt;e to the character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2. Because the book did not give a time period for the story, how did you determine it? Through clothing, language,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etting, description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3. if the characters were real, what would they be doing now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4. People write because they have a story to tell. What do you think the author was saying? (moral lesson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5. Why did you choose that particular section of the book to rea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6. Are there pictures in the book that you find interesting? Why? What are they depicting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7. What type of book is this? (fantasy, fiction, nonfiction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8. Why should we read this boo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imageserver.ebscohost.com/img/imageqv/actual/ret/20060901/454168.jpg?ephost1=dGJyMMTo50Sepq84zdnyOLCmr0iepq5Srqa4SK6WxWXS"/>
          <p:cNvPicPr/>
          <p:nvPr/>
        </p:nvPicPr>
        <p:blipFill>
          <a:blip r:embed="rId1"/>
          <a:stretch/>
        </p:blipFill>
        <p:spPr>
          <a:xfrm>
            <a:off x="3938760" y="2822400"/>
            <a:ext cx="5138640" cy="3969000"/>
          </a:xfrm>
          <a:prstGeom prst="rect">
            <a:avLst/>
          </a:prstGeom>
          <a:ln w="0">
            <a:noFill/>
          </a:ln>
        </p:spPr>
      </p:pic>
      <p:pic>
        <p:nvPicPr>
          <p:cNvPr id="365" name="Title 1" descr=""/>
          <p:cNvPicPr/>
          <p:nvPr/>
        </p:nvPicPr>
        <p:blipFill>
          <a:blip r:embed="rId2"/>
          <a:stretch/>
        </p:blipFill>
        <p:spPr>
          <a:xfrm>
            <a:off x="195120" y="60480"/>
            <a:ext cx="7607520" cy="16351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8440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pen ended questions are easier for readers to answ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>
              <a:spcBef>
                <a:spcPts val="700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8 main profiles of comprehension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iteralists, Fuzz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nkers, Left Fielders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Quiz Contestants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oliticians, Dodgers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uthors an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nimali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3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077320" cy="1481040"/>
          </a:xfrm>
          <a:prstGeom prst="rect">
            <a:avLst/>
          </a:prstGeom>
          <a:ln w="0">
            <a:noFill/>
          </a:ln>
        </p:spPr>
      </p:pic>
      <p:pic>
        <p:nvPicPr>
          <p:cNvPr id="368" name="Subtitle 4" descr=""/>
          <p:cNvPicPr/>
          <p:nvPr/>
        </p:nvPicPr>
        <p:blipFill>
          <a:blip r:embed="rId2"/>
          <a:stretch/>
        </p:blipFill>
        <p:spPr>
          <a:xfrm>
            <a:off x="536400" y="1311120"/>
            <a:ext cx="8120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3" descr=""/>
          <p:cNvPicPr/>
          <p:nvPr/>
        </p:nvPicPr>
        <p:blipFill>
          <a:blip r:embed="rId1"/>
          <a:stretch/>
        </p:blipFill>
        <p:spPr>
          <a:xfrm>
            <a:off x="378000" y="201600"/>
            <a:ext cx="8070840" cy="1481040"/>
          </a:xfrm>
          <a:prstGeom prst="rect">
            <a:avLst/>
          </a:prstGeom>
          <a:ln w="0">
            <a:noFill/>
          </a:ln>
        </p:spPr>
      </p:pic>
      <p:pic>
        <p:nvPicPr>
          <p:cNvPr id="370" name="Subtitle 4" descr=""/>
          <p:cNvPicPr/>
          <p:nvPr/>
        </p:nvPicPr>
        <p:blipFill>
          <a:blip r:embed="rId2"/>
          <a:stretch/>
        </p:blipFill>
        <p:spPr>
          <a:xfrm>
            <a:off x="536400" y="2212920"/>
            <a:ext cx="80712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1077840" cy="6164280"/>
          </a:xfrm>
          <a:prstGeom prst="rect">
            <a:avLst/>
          </a:prstGeom>
          <a:ln w="0">
            <a:noFill/>
          </a:ln>
        </p:spPr>
      </p:pic>
      <p:pic>
        <p:nvPicPr>
          <p:cNvPr id="372" name="Text Placeholder 4" descr=""/>
          <p:cNvPicPr/>
          <p:nvPr/>
        </p:nvPicPr>
        <p:blipFill>
          <a:blip r:embed="rId2"/>
          <a:stretch/>
        </p:blipFill>
        <p:spPr>
          <a:xfrm>
            <a:off x="1359000" y="285840"/>
            <a:ext cx="592200" cy="3030480"/>
          </a:xfrm>
          <a:prstGeom prst="rect">
            <a:avLst/>
          </a:prstGeom>
          <a:ln w="0">
            <a:noFill/>
          </a:ln>
        </p:spPr>
      </p:pic>
      <p:pic>
        <p:nvPicPr>
          <p:cNvPr id="373" name="Text Placeholder 6" descr=""/>
          <p:cNvPicPr/>
          <p:nvPr/>
        </p:nvPicPr>
        <p:blipFill>
          <a:blip r:embed="rId3"/>
          <a:stretch/>
        </p:blipFill>
        <p:spPr>
          <a:xfrm>
            <a:off x="1359000" y="3419640"/>
            <a:ext cx="592200" cy="3030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022480" y="290160"/>
            <a:ext cx="68580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hands-on activities to teach students to make connections and use their schem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more connections the students can make, the more questions they will have and the more they will understan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courage schema and questions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ctivities are not only hands-on, but self engaging and student interesti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ities are students driven, but also teacher direct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ities teach students how to use their schema and make connectio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ities encourage students to make connections and create questio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0:34:01Z</dcterms:created>
  <dc:creator>Nicole Cain</dc:creator>
  <dc:description/>
  <dc:language>en-US</dc:language>
  <cp:lastModifiedBy>Nicole Cain</cp:lastModifiedBy>
  <dcterms:modified xsi:type="dcterms:W3CDTF">2010-10-07T01:53:41Z</dcterms:modified>
  <cp:revision>14</cp:revision>
  <dc:subject/>
  <dc:title>Questioning: Lead up to by Comprehension</dc:title>
</cp:coreProperties>
</file>